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907588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128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711000" y="744120"/>
            <a:ext cx="537516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5400" rIns="9540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4800" cy="4971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1280" y="9427680"/>
            <a:ext cx="2944800" cy="4971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F41F6-1D8B-4EEE-A013-782D865F6C25}" type="slidenum">
              <a:rPr b="0" lang="de-DE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711360" y="744480"/>
            <a:ext cx="5375160" cy="372276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Foliennummernplatzhalter 3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AE5BD-AF2D-4808-89DC-CB43C04023C2}" type="slidenum">
              <a:rPr b="0" lang="de-DE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95BCC-81EA-4B01-A44C-B4C6F63C3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440BA-8203-4FE2-8851-2816401BA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EBF9F-0F31-406D-964A-3388F0C49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86576-1B77-4D2D-8B7B-00A7C2C09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93200-1787-4CB2-9736-E81062AD5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19D7C-FCEA-4498-9B2A-826EAD750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434CF-B15A-4B77-972B-8BD690899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9A9B4-1583-4D2D-8030-BB8C68080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0E6D5-D0E5-4518-8BD9-4D85782C6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1D23E-88E8-4369-B5DB-3B2682F01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FFF20-D684-43C8-ABE6-C10F64689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ADC83-AF92-41F9-8492-36B3C2E53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9CAEB-90AD-4A17-A263-82E3097A66C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6"/>
          <p:cNvSpPr/>
          <p:nvPr/>
        </p:nvSpPr>
        <p:spPr>
          <a:xfrm>
            <a:off x="3084480" y="115920"/>
            <a:ext cx="37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Arbeitsblatt Konturfräs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47"/>
          <p:cNvSpPr/>
          <p:nvPr/>
        </p:nvSpPr>
        <p:spPr>
          <a:xfrm>
            <a:off x="0" y="549360"/>
            <a:ext cx="990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Gruppieren 46"/>
          <p:cNvGrpSpPr/>
          <p:nvPr/>
        </p:nvGrpSpPr>
        <p:grpSpPr>
          <a:xfrm>
            <a:off x="1363680" y="1197000"/>
            <a:ext cx="7500960" cy="5072040"/>
            <a:chOff x="1363680" y="1197000"/>
            <a:chExt cx="7500960" cy="5072040"/>
          </a:xfrm>
        </p:grpSpPr>
        <p:pic>
          <p:nvPicPr>
            <p:cNvPr id="51" name="Grafik 11" descr="geänderte Formplatte für KLA - 1.TIF"/>
            <p:cNvPicPr/>
            <p:nvPr/>
          </p:nvPicPr>
          <p:blipFill>
            <a:blip r:embed="rId1"/>
            <a:srcRect l="6252" t="8016" r="11720" b="13543"/>
            <a:stretch/>
          </p:blipFill>
          <p:spPr>
            <a:xfrm>
              <a:off x="1363680" y="1197000"/>
              <a:ext cx="7500960" cy="507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Ellipse 18"/>
            <p:cNvSpPr/>
            <p:nvPr/>
          </p:nvSpPr>
          <p:spPr>
            <a:xfrm>
              <a:off x="2097000" y="527868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Textfeld 19"/>
            <p:cNvSpPr/>
            <p:nvPr/>
          </p:nvSpPr>
          <p:spPr>
            <a:xfrm>
              <a:off x="2113560" y="509076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uppieren 35"/>
            <p:cNvGrpSpPr/>
            <p:nvPr/>
          </p:nvGrpSpPr>
          <p:grpSpPr>
            <a:xfrm>
              <a:off x="1756440" y="5492880"/>
              <a:ext cx="326160" cy="326160"/>
              <a:chOff x="1756440" y="5492880"/>
              <a:chExt cx="326160" cy="326160"/>
            </a:xfrm>
          </p:grpSpPr>
          <p:grpSp>
            <p:nvGrpSpPr>
              <p:cNvPr id="55" name="Gruppieren 28"/>
              <p:cNvGrpSpPr/>
              <p:nvPr/>
            </p:nvGrpSpPr>
            <p:grpSpPr>
              <a:xfrm>
                <a:off x="1818000" y="5561280"/>
                <a:ext cx="192240" cy="191520"/>
                <a:chOff x="1818000" y="5561280"/>
                <a:chExt cx="192240" cy="191520"/>
              </a:xfrm>
            </p:grpSpPr>
            <p:sp>
              <p:nvSpPr>
                <p:cNvPr id="56" name="Ellipse 26"/>
                <p:cNvSpPr/>
                <p:nvPr/>
              </p:nvSpPr>
              <p:spPr>
                <a:xfrm>
                  <a:off x="1818000" y="5561280"/>
                  <a:ext cx="192240" cy="191520"/>
                </a:xfrm>
                <a:prstGeom prst="ellipse">
                  <a:avLst/>
                </a:prstGeom>
                <a:solidFill>
                  <a:srgbClr val="00000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" name="Torte 25"/>
                <p:cNvSpPr/>
                <p:nvPr/>
              </p:nvSpPr>
              <p:spPr>
                <a:xfrm rot="5400000">
                  <a:off x="1818360" y="5560920"/>
                  <a:ext cx="191520" cy="192240"/>
                </a:xfrm>
                <a:custGeom>
                  <a:avLst/>
                  <a:gdLst>
                    <a:gd name="textAreaLeft" fmla="*/ 28080 w 191520"/>
                    <a:gd name="textAreaRight" fmla="*/ 163440 w 191520"/>
                    <a:gd name="textAreaTop" fmla="*/ 28080 h 192240"/>
                    <a:gd name="textAreaBottom" fmla="*/ 164160 h 192240"/>
                  </a:gdLst>
                  <a:ahLst/>
                  <a:rect l="textAreaLeft" t="textAreaTop" r="textAreaRight" b="textAreaBottom"/>
                  <a:pathLst>
                    <a:path w="402025" h="387137">
                      <a:moveTo>
                        <a:pt x="402025" y="193569"/>
                      </a:moveTo>
                      <a:lnTo>
                        <a:pt x="402025" y="193569"/>
                      </a:lnTo>
                      <a:arcTo wR="201013" hR="193569" stAng="0" swAng="16200000"/>
                      <a:lnTo>
                        <a:pt x="201013" y="193569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" name="Ellipse 27"/>
              <p:cNvSpPr/>
              <p:nvPr/>
            </p:nvSpPr>
            <p:spPr>
              <a:xfrm>
                <a:off x="1780200" y="5522760"/>
                <a:ext cx="268920" cy="2692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Gerade Verbindung 30"/>
              <p:cNvSpPr/>
              <p:nvPr/>
            </p:nvSpPr>
            <p:spPr>
              <a:xfrm>
                <a:off x="1756440" y="5657400"/>
                <a:ext cx="3261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Gerade Verbindung 32"/>
              <p:cNvSpPr/>
              <p:nvPr/>
            </p:nvSpPr>
            <p:spPr>
              <a:xfrm flipV="1">
                <a:off x="1915560" y="5492880"/>
                <a:ext cx="0" cy="326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" name="Gerade Verbindung 37"/>
            <p:cNvSpPr/>
            <p:nvPr/>
          </p:nvSpPr>
          <p:spPr>
            <a:xfrm>
              <a:off x="8442360" y="5654880"/>
              <a:ext cx="214200" cy="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" name="Gruppieren 38"/>
            <p:cNvGrpSpPr/>
            <p:nvPr/>
          </p:nvGrpSpPr>
          <p:grpSpPr>
            <a:xfrm>
              <a:off x="8512200" y="5492880"/>
              <a:ext cx="326160" cy="326160"/>
              <a:chOff x="8512200" y="5492880"/>
              <a:chExt cx="326160" cy="326160"/>
            </a:xfrm>
          </p:grpSpPr>
          <p:grpSp>
            <p:nvGrpSpPr>
              <p:cNvPr id="63" name="Gruppieren 28"/>
              <p:cNvGrpSpPr/>
              <p:nvPr/>
            </p:nvGrpSpPr>
            <p:grpSpPr>
              <a:xfrm>
                <a:off x="8574840" y="5561280"/>
                <a:ext cx="192240" cy="191520"/>
                <a:chOff x="8574840" y="5561280"/>
                <a:chExt cx="192240" cy="191520"/>
              </a:xfrm>
            </p:grpSpPr>
            <p:sp>
              <p:nvSpPr>
                <p:cNvPr id="64" name="Ellipse 43"/>
                <p:cNvSpPr/>
                <p:nvPr/>
              </p:nvSpPr>
              <p:spPr>
                <a:xfrm>
                  <a:off x="8574840" y="5561280"/>
                  <a:ext cx="192240" cy="191520"/>
                </a:xfrm>
                <a:prstGeom prst="ellipse">
                  <a:avLst/>
                </a:prstGeom>
                <a:solidFill>
                  <a:srgbClr val="00000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" name="Torte 44"/>
                <p:cNvSpPr/>
                <p:nvPr/>
              </p:nvSpPr>
              <p:spPr>
                <a:xfrm rot="5400000">
                  <a:off x="8575200" y="5560920"/>
                  <a:ext cx="191520" cy="192240"/>
                </a:xfrm>
                <a:custGeom>
                  <a:avLst/>
                  <a:gdLst>
                    <a:gd name="textAreaLeft" fmla="*/ 28080 w 191520"/>
                    <a:gd name="textAreaRight" fmla="*/ 163440 w 191520"/>
                    <a:gd name="textAreaTop" fmla="*/ 28080 h 192240"/>
                    <a:gd name="textAreaBottom" fmla="*/ 164160 h 192240"/>
                  </a:gdLst>
                  <a:ahLst/>
                  <a:rect l="textAreaLeft" t="textAreaTop" r="textAreaRight" b="textAreaBottom"/>
                  <a:pathLst>
                    <a:path w="402025" h="360334">
                      <a:moveTo>
                        <a:pt x="402025" y="180167"/>
                      </a:moveTo>
                      <a:lnTo>
                        <a:pt x="402025" y="180167"/>
                      </a:lnTo>
                      <a:arcTo wR="201013" hR="180167" stAng="0" swAng="16200000"/>
                      <a:lnTo>
                        <a:pt x="201013" y="18016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" name="Ellipse 40"/>
              <p:cNvSpPr/>
              <p:nvPr/>
            </p:nvSpPr>
            <p:spPr>
              <a:xfrm>
                <a:off x="8535960" y="5522760"/>
                <a:ext cx="268920" cy="2692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Gerade Verbindung 41"/>
              <p:cNvSpPr/>
              <p:nvPr/>
            </p:nvSpPr>
            <p:spPr>
              <a:xfrm>
                <a:off x="8512200" y="5657400"/>
                <a:ext cx="3261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Gerade Verbindung 42"/>
              <p:cNvSpPr/>
              <p:nvPr/>
            </p:nvSpPr>
            <p:spPr>
              <a:xfrm flipV="1">
                <a:off x="8671320" y="5492880"/>
                <a:ext cx="0" cy="326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9" name="Gerader Verbinder 5"/>
          <p:cNvSpPr/>
          <p:nvPr/>
        </p:nvSpPr>
        <p:spPr>
          <a:xfrm>
            <a:off x="7970760" y="2467080"/>
            <a:ext cx="701640" cy="0"/>
          </a:xfrm>
          <a:prstGeom prst="line">
            <a:avLst/>
          </a:prstGeom>
          <a:ln w="158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Gerader Verbinder 28"/>
          <p:cNvSpPr/>
          <p:nvPr/>
        </p:nvSpPr>
        <p:spPr>
          <a:xfrm>
            <a:off x="7970760" y="2898720"/>
            <a:ext cx="690480" cy="0"/>
          </a:xfrm>
          <a:prstGeom prst="line">
            <a:avLst/>
          </a:prstGeom>
          <a:ln w="158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Gerader Verbinder 31"/>
          <p:cNvSpPr/>
          <p:nvPr/>
        </p:nvSpPr>
        <p:spPr>
          <a:xfrm>
            <a:off x="3584520" y="2676600"/>
            <a:ext cx="900000" cy="0"/>
          </a:xfrm>
          <a:prstGeom prst="line">
            <a:avLst/>
          </a:prstGeom>
          <a:ln w="1584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Gerader Verbinder 33"/>
          <p:cNvSpPr/>
          <p:nvPr/>
        </p:nvSpPr>
        <p:spPr>
          <a:xfrm>
            <a:off x="8439120" y="3959280"/>
            <a:ext cx="90360" cy="0"/>
          </a:xfrm>
          <a:prstGeom prst="line">
            <a:avLst/>
          </a:prstGeom>
          <a:ln w="158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Gerader Verbinder 34"/>
          <p:cNvSpPr/>
          <p:nvPr/>
        </p:nvSpPr>
        <p:spPr>
          <a:xfrm>
            <a:off x="4032360" y="2251080"/>
            <a:ext cx="0" cy="900000"/>
          </a:xfrm>
          <a:prstGeom prst="line">
            <a:avLst/>
          </a:prstGeom>
          <a:ln w="1584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Gerader Verbinder 58"/>
          <p:cNvSpPr/>
          <p:nvPr/>
        </p:nvSpPr>
        <p:spPr>
          <a:xfrm>
            <a:off x="7812000" y="2685960"/>
            <a:ext cx="1042920" cy="0"/>
          </a:xfrm>
          <a:prstGeom prst="line">
            <a:avLst/>
          </a:prstGeom>
          <a:ln w="1584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Gerader Verbinder 33"/>
          <p:cNvSpPr/>
          <p:nvPr/>
        </p:nvSpPr>
        <p:spPr>
          <a:xfrm>
            <a:off x="8578800" y="3959280"/>
            <a:ext cx="90360" cy="0"/>
          </a:xfrm>
          <a:prstGeom prst="line">
            <a:avLst/>
          </a:prstGeom>
          <a:ln w="158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1T11:04:29Z</dcterms:created>
  <dc:creator>Frank Summer</dc:creator>
  <dc:description/>
  <dc:language>en-US</dc:language>
  <cp:lastModifiedBy>Frank Summer</cp:lastModifiedBy>
  <cp:lastPrinted>2019-07-15T09:47:10Z</cp:lastPrinted>
  <dcterms:modified xsi:type="dcterms:W3CDTF">2019-07-16T05:37:47Z</dcterms:modified>
  <cp:revision>33</cp:revision>
  <dc:subject/>
  <dc:title>Folie 1</dc:title>
</cp:coreProperties>
</file>