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0EE8-E33A-40C4-BDFB-CF78B0BDB090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66CF-CDE2-469E-ADD4-C42634947CFA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3014-E0B4-4C86-A4DD-2130492F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1801-13B9-48F2-B794-2317D313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9391-2795-4AAF-B270-BB200A0C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EA1B-DD01-4025-99DD-ECC017F0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AAA0-9119-498A-8B20-C41EC551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8E2F-2CEB-4AF3-86C1-7190BAC7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90E6-762D-4890-BD0D-28657DB7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3CD9-E756-4077-A676-FF4F23BA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C8F3-D7FF-4811-B8F9-9AC05FA9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5255-C54A-49DD-A60C-86781747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8EAA-E770-4623-B624-BCFFD375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9D1E-B29D-482B-9C89-BE5C599E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D290-5ADE-4855-9D46-B34BBDFD5C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ieren 46"/>
          <p:cNvGrpSpPr/>
          <p:nvPr/>
        </p:nvGrpSpPr>
        <p:grpSpPr>
          <a:xfrm>
            <a:off x="1363680" y="1197000"/>
            <a:ext cx="7500960" cy="5072040"/>
            <a:chOff x="1363680" y="1197000"/>
            <a:chExt cx="7500960" cy="5072040"/>
          </a:xfrm>
        </p:grpSpPr>
        <p:pic>
          <p:nvPicPr>
            <p:cNvPr id="51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Ellipse 18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19"/>
            <p:cNvSpPr/>
            <p:nvPr/>
          </p:nvSpPr>
          <p:spPr>
            <a:xfrm>
              <a:off x="2113560" y="50907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6440" y="5492880"/>
              <a:ext cx="326160" cy="326160"/>
              <a:chOff x="1756440" y="5492880"/>
              <a:chExt cx="326160" cy="32616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000" y="5561280"/>
                <a:ext cx="192240" cy="191520"/>
                <a:chOff x="1818000" y="5561280"/>
                <a:chExt cx="192240" cy="191520"/>
              </a:xfrm>
            </p:grpSpPr>
            <p:sp>
              <p:nvSpPr>
                <p:cNvPr id="56" name="Ellipse 26"/>
                <p:cNvSpPr/>
                <p:nvPr/>
              </p:nvSpPr>
              <p:spPr>
                <a:xfrm>
                  <a:off x="181800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87137">
                      <a:moveTo>
                        <a:pt x="402025" y="193569"/>
                      </a:moveTo>
                      <a:lnTo>
                        <a:pt x="402025" y="193569"/>
                      </a:lnTo>
                      <a:arcTo wR="201013" hR="193569" stAng="0" swAng="16200000"/>
                      <a:lnTo>
                        <a:pt x="201013" y="1935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27"/>
              <p:cNvSpPr/>
              <p:nvPr/>
            </p:nvSpPr>
            <p:spPr>
              <a:xfrm>
                <a:off x="178020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30"/>
              <p:cNvSpPr/>
              <p:nvPr/>
            </p:nvSpPr>
            <p:spPr>
              <a:xfrm>
                <a:off x="175644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32"/>
              <p:cNvSpPr/>
              <p:nvPr/>
            </p:nvSpPr>
            <p:spPr>
              <a:xfrm flipV="1">
                <a:off x="191556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7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200" y="5492880"/>
              <a:ext cx="326160" cy="326160"/>
              <a:chOff x="8512200" y="5492880"/>
              <a:chExt cx="326160" cy="32616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280"/>
                <a:ext cx="192240" cy="191520"/>
                <a:chOff x="8574840" y="5561280"/>
                <a:chExt cx="192240" cy="191520"/>
              </a:xfrm>
            </p:grpSpPr>
            <p:sp>
              <p:nvSpPr>
                <p:cNvPr id="64" name="Ellipse 43"/>
                <p:cNvSpPr/>
                <p:nvPr/>
              </p:nvSpPr>
              <p:spPr>
                <a:xfrm>
                  <a:off x="857484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520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60334">
                      <a:moveTo>
                        <a:pt x="402025" y="180167"/>
                      </a:moveTo>
                      <a:lnTo>
                        <a:pt x="402025" y="180167"/>
                      </a:lnTo>
                      <a:arcTo wR="201013" hR="180167" stAng="0" swAng="16200000"/>
                      <a:lnTo>
                        <a:pt x="201013" y="180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40"/>
              <p:cNvSpPr/>
              <p:nvPr/>
            </p:nvSpPr>
            <p:spPr>
              <a:xfrm>
                <a:off x="853596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41"/>
              <p:cNvSpPr/>
              <p:nvPr/>
            </p:nvSpPr>
            <p:spPr>
              <a:xfrm>
                <a:off x="851220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42"/>
              <p:cNvSpPr/>
              <p:nvPr/>
            </p:nvSpPr>
            <p:spPr>
              <a:xfrm flipV="1">
                <a:off x="867132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Gerader Verbinder 5"/>
          <p:cNvSpPr/>
          <p:nvPr/>
        </p:nvSpPr>
        <p:spPr>
          <a:xfrm>
            <a:off x="7970760" y="2467080"/>
            <a:ext cx="70164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r Verbinder 31"/>
          <p:cNvSpPr/>
          <p:nvPr/>
        </p:nvSpPr>
        <p:spPr>
          <a:xfrm>
            <a:off x="3584520" y="26766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r Verbinder 34"/>
          <p:cNvSpPr/>
          <p:nvPr/>
        </p:nvSpPr>
        <p:spPr>
          <a:xfrm>
            <a:off x="4032360" y="2251080"/>
            <a:ext cx="0" cy="90000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cp:lastPrinted>2019-07-15T09:47:10Z</cp:lastPrinted>
  <dcterms:modified xsi:type="dcterms:W3CDTF">2019-07-16T05:37:47Z</dcterms:modified>
  <cp:revision>33</cp:revision>
  <dc:subject/>
  <dc:title>Folie 1</dc:title>
</cp:coreProperties>
</file>