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5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00DF-A6DA-46F9-B622-F0936FAA1CA7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oliennummernplatzhalt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9628-0359-4E11-9D34-E9D555436484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081C-FB70-407B-BAF7-BB4BC3FB3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CC9A-6D21-42F0-8B54-33EEB707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5856-29D8-434F-8ED4-569F3959B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1D4D-C8F1-4E2E-BA7B-B27C21871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CB64-7954-4AD2-AA58-64323ACD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116C-A40D-4F64-9920-D0618C15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3EC8-6DAF-4C39-BB49-AF8F8E47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7E8C-EA11-428B-B17F-3C204E93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4F19-CF46-4C58-B317-716A726F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CF44-9A1B-479A-947C-AC41FCAE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CD26-8BBE-4BD3-A3E6-B2D68333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077B-A83D-4264-AA2E-111A57C8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9BCB-2DFA-410E-9D54-80DE1E3C4D8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r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uppieren 46"/>
          <p:cNvGrpSpPr/>
          <p:nvPr/>
        </p:nvGrpSpPr>
        <p:grpSpPr>
          <a:xfrm>
            <a:off x="1363680" y="1197000"/>
            <a:ext cx="7500960" cy="5072040"/>
            <a:chOff x="1363680" y="1197000"/>
            <a:chExt cx="7500960" cy="5072040"/>
          </a:xfrm>
        </p:grpSpPr>
        <p:pic>
          <p:nvPicPr>
            <p:cNvPr id="51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Ellipse 18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feld 19"/>
            <p:cNvSpPr/>
            <p:nvPr/>
          </p:nvSpPr>
          <p:spPr>
            <a:xfrm>
              <a:off x="2113560" y="50907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6440" y="5492880"/>
              <a:ext cx="326160" cy="326160"/>
              <a:chOff x="1756440" y="5492880"/>
              <a:chExt cx="326160" cy="32616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000" y="5561280"/>
                <a:ext cx="192240" cy="191520"/>
                <a:chOff x="1818000" y="5561280"/>
                <a:chExt cx="192240" cy="191520"/>
              </a:xfrm>
            </p:grpSpPr>
            <p:sp>
              <p:nvSpPr>
                <p:cNvPr id="56" name="Ellipse 26"/>
                <p:cNvSpPr/>
                <p:nvPr/>
              </p:nvSpPr>
              <p:spPr>
                <a:xfrm>
                  <a:off x="181800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87137">
                      <a:moveTo>
                        <a:pt x="402025" y="193569"/>
                      </a:moveTo>
                      <a:lnTo>
                        <a:pt x="402025" y="193569"/>
                      </a:lnTo>
                      <a:arcTo wR="201013" hR="193569" stAng="0" swAng="16200000"/>
                      <a:lnTo>
                        <a:pt x="201013" y="1935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27"/>
              <p:cNvSpPr/>
              <p:nvPr/>
            </p:nvSpPr>
            <p:spPr>
              <a:xfrm>
                <a:off x="178020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30"/>
              <p:cNvSpPr/>
              <p:nvPr/>
            </p:nvSpPr>
            <p:spPr>
              <a:xfrm>
                <a:off x="175644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32"/>
              <p:cNvSpPr/>
              <p:nvPr/>
            </p:nvSpPr>
            <p:spPr>
              <a:xfrm flipV="1">
                <a:off x="191556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7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200" y="5492880"/>
              <a:ext cx="326160" cy="326160"/>
              <a:chOff x="8512200" y="5492880"/>
              <a:chExt cx="326160" cy="32616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280"/>
                <a:ext cx="192240" cy="191520"/>
                <a:chOff x="8574840" y="5561280"/>
                <a:chExt cx="192240" cy="191520"/>
              </a:xfrm>
            </p:grpSpPr>
            <p:sp>
              <p:nvSpPr>
                <p:cNvPr id="64" name="Ellipse 43"/>
                <p:cNvSpPr/>
                <p:nvPr/>
              </p:nvSpPr>
              <p:spPr>
                <a:xfrm>
                  <a:off x="857484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520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60334">
                      <a:moveTo>
                        <a:pt x="402025" y="180167"/>
                      </a:moveTo>
                      <a:lnTo>
                        <a:pt x="402025" y="180167"/>
                      </a:lnTo>
                      <a:arcTo wR="201013" hR="180167" stAng="0" swAng="16200000"/>
                      <a:lnTo>
                        <a:pt x="201013" y="1801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40"/>
              <p:cNvSpPr/>
              <p:nvPr/>
            </p:nvSpPr>
            <p:spPr>
              <a:xfrm>
                <a:off x="853596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41"/>
              <p:cNvSpPr/>
              <p:nvPr/>
            </p:nvSpPr>
            <p:spPr>
              <a:xfrm>
                <a:off x="851220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42"/>
              <p:cNvSpPr/>
              <p:nvPr/>
            </p:nvSpPr>
            <p:spPr>
              <a:xfrm flipV="1">
                <a:off x="867132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Gerader Verbinder 5"/>
          <p:cNvSpPr/>
          <p:nvPr/>
        </p:nvSpPr>
        <p:spPr>
          <a:xfrm>
            <a:off x="7970760" y="2467080"/>
            <a:ext cx="70164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Gerader Verbinder 31"/>
          <p:cNvSpPr/>
          <p:nvPr/>
        </p:nvSpPr>
        <p:spPr>
          <a:xfrm>
            <a:off x="3584520" y="2676600"/>
            <a:ext cx="90000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Gerader Verbinder 34"/>
          <p:cNvSpPr/>
          <p:nvPr/>
        </p:nvSpPr>
        <p:spPr>
          <a:xfrm>
            <a:off x="4032360" y="2251080"/>
            <a:ext cx="0" cy="90000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cp:lastPrinted>2019-07-15T09:47:10Z</cp:lastPrinted>
  <dcterms:modified xsi:type="dcterms:W3CDTF">2019-07-16T05:37:47Z</dcterms:modified>
  <cp:revision>33</cp:revision>
  <dc:subject/>
  <dc:title>Folie 1</dc:title>
</cp:coreProperties>
</file>