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8F07-2CB4-4AAE-9270-57E2FC40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75CB9-3BE4-46F7-9912-05765C381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D4A0-1518-4959-B649-E98C0142A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99B5C-D8F8-4BFD-AE56-EB494E6C5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D0CA-4E48-4EF1-8BD3-F651B6B66E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068D4-B4F4-4113-BF42-E57493137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048E-FA6E-4C2B-807A-4D33BBB77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A51B5-3F9C-4E77-A666-10FE22AFE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A5D7A-7696-4C53-812D-DB46D3FB1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F5C6D-6A77-4B40-B189-402EBD4EA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924DE-DF01-491F-876D-9FFBED556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3C40A-4E42-4D94-80DD-4F6C6EADA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1CB46-EDAE-4E17-9850-35B09D4C50C9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nhaltsplatzhalter 4" descr=""/>
          <p:cNvPicPr/>
          <p:nvPr/>
        </p:nvPicPr>
        <p:blipFill>
          <a:blip r:embed="rId1"/>
          <a:stretch/>
        </p:blipFill>
        <p:spPr>
          <a:xfrm>
            <a:off x="84240" y="404640"/>
            <a:ext cx="8975520" cy="62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45:44Z</dcterms:modified>
  <cp:revision>17</cp:revision>
  <dc:subject/>
  <dc:title>Folie 1</dc:title>
</cp:coreProperties>
</file>