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AEE6-C8CF-4695-B1AE-F7871E966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3B1F-8984-4D18-A959-1B69334A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9827-C5F8-46FB-A4AD-1494A4DC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2B7D-A239-4283-BFBE-6D1F77D1D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F364-EC1D-4BED-A086-6C9F570C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83BB-5E2F-474B-8CEA-E150D65A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9C03-B29D-4DFB-A1B2-40F3B962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7A1C-48CE-449F-AC6F-0510D8AC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23F6-A328-4048-B2A3-B52C7A5D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8359-9366-400B-8807-49DFD849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F431-3C18-4636-BE94-19CFBE0D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A3BD-262D-41DA-BD7B-CC3B91CC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1C17-66F1-4F28-A1C6-BF5E038CC6C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haltsplatzhalter 4" descr=""/>
          <p:cNvPicPr/>
          <p:nvPr/>
        </p:nvPicPr>
        <p:blipFill>
          <a:blip r:embed="rId1"/>
          <a:stretch/>
        </p:blipFill>
        <p:spPr>
          <a:xfrm>
            <a:off x="84240" y="404640"/>
            <a:ext cx="8975520" cy="629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45:44Z</dcterms:modified>
  <cp:revision>17</cp:revision>
  <dc:subject/>
  <dc:title>Folie 1</dc:title>
</cp:coreProperties>
</file>