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72CB-0908-40B6-A285-FEB8E11E3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4E12-F256-47BB-82A2-969D0B70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4A53-984D-442D-9D51-3B1FCEBF0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F3E1-94CA-4C09-90B9-BBDCF24E4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42EF-723C-44B5-9F85-229E2B79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12DB-F716-4AAD-A0F6-D2AFC8AB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BDB9-439D-45D9-8081-2537C576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A892-89DD-4075-8FCA-52AEF793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22A7-DCD5-46EB-98DC-3BE62250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ABFA-368F-47E0-818C-21BB70F7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A437-3A67-411B-9536-185379AB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DA92-83B2-4D49-9E3B-160FBBD3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2CA0-A09C-428A-B757-3D166663DEB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haltsplatzhalter 4" descr=""/>
          <p:cNvPicPr/>
          <p:nvPr/>
        </p:nvPicPr>
        <p:blipFill>
          <a:blip r:embed="rId1"/>
          <a:stretch/>
        </p:blipFill>
        <p:spPr>
          <a:xfrm>
            <a:off x="84240" y="404640"/>
            <a:ext cx="8975520" cy="629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45:44Z</dcterms:modified>
  <cp:revision>17</cp:revision>
  <dc:subject/>
  <dc:title>Folie 1</dc:title>
</cp:coreProperties>
</file>