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1F75-2FA5-41B6-A578-EF7A3DCFE28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6DC2-F424-4D73-9A5B-5E61C2F2BA2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EC97-1D0B-44DB-9F7E-45B558D3CF5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3945-4D6E-40D9-8F8F-0F520A428ED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3BBF-A580-4001-9882-77BB601A800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2A49-3138-4872-9EEB-32AC16DC398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67C7-4FAF-49D9-83A2-5C17E116EDA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BF7B-EC61-4FE8-A37E-560C9D44CFB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8758-7D1F-4DD9-A8D4-95F8E2CF4A5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1E45-1D47-4CBD-BE63-9927E249B36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BB53-412D-4864-AB0C-95AD952E0A8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9B79-2B52-418D-BC31-124FD872D77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F6D4-9AFB-4B42-A00F-23DD783491D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C8D8-ECA1-4ADD-9E32-930746D95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CB84-AFDA-4E71-8686-CA1F58B5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F6FF-4512-46B3-AC63-B6B2A5FE1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F276-2C9F-48DF-B82D-A0F8B32F4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C89D-270D-4528-BE44-C5ED28F91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B0287-9565-44AB-8CD1-9C9C73DD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FF3E-AAAC-47A6-BF41-440B43A5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DC8D-98DE-444E-9BCF-E35A8109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A4647-DA0F-4C84-8ACE-6817937D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0C52-8829-4669-BB01-897518D9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CC21-0445-40B7-B9E4-034F8DE4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796F-FC27-471F-9DA4-EC445A52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B9228-A289-4426-B2A3-253AE611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4BA8-F9B7-46B2-8FFF-71C89B0D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E9F4-391A-44C4-B7DB-B08A560C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40BF-8261-44B4-AE20-F1D6BACFF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458E9-780A-4715-8B4A-0906ED374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004D7-3069-4BD9-993D-D5EEBDE85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F5B29-DC7F-4C9D-B8CC-7E517941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7290D-0117-4664-99C7-4CFF9F7E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F4399-1E96-41B4-A7C5-C313B9AF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9D31D-FC7A-4F6F-96FC-AAA8980E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387F-EB1B-4B6E-9ED2-223FCDCF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3EBBB-34B3-480E-A9F2-4E50FBB7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83909-4B29-4B24-B94F-39070B0E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BA3C4-735A-4935-B087-57C583DE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E79BA-4FE7-4533-95CB-FBC98383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48A7A-C6DD-4995-B671-E56BE32F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D5058-3328-43EB-BFF6-8888431FA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0EB86-B787-44F2-B34D-714A80E68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456C-829A-47AD-A9A4-F2531DAD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B768-09FA-4083-A269-69168525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6BB6-A0B9-4A44-BD24-F9F25E14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ECEF-88EE-49D5-BFED-A5437CA4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3160-FF94-4525-B061-A082BC73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DD93-DEBA-401B-B2AF-D6912AF4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D2FB-953C-4752-8394-9F7134BBAF3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D9A2-F08D-45EC-BC6D-421E55FB08DC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7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2860-5F86-436C-ABDB-0082EE7FC958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1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4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5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6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7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8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9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0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Hydraulikschem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Heizkörp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mit RTL-Venti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Speicheraufladu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Regelungstechni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6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6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6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7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7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47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48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9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0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50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50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50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51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54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54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55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62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62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62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3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63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63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63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3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63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5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66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66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66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67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70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70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71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1786" name="Line 165"/>
          <p:cNvSpPr/>
          <p:nvPr/>
        </p:nvSpPr>
        <p:spPr>
          <a:xfrm flipV="1">
            <a:off x="1187280" y="2492280"/>
            <a:ext cx="381636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Textfeld 1"/>
          <p:cNvSpPr/>
          <p:nvPr/>
        </p:nvSpPr>
        <p:spPr>
          <a:xfrm>
            <a:off x="4859280" y="1722600"/>
            <a:ext cx="266544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Hier das Bild einer Einzelraumsteuerung einfü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8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789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790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794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795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796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797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798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99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800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1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2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3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4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5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6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7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8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9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0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1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2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3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814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4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5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6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827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28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29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6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37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5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866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867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5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876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7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9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950" name="Picture 164" descr="http://hausbau.daoud.de/wp-content/uploads/2011/03/IMG_6465-Kopie-1024x767.jpg"/>
          <p:cNvPicPr/>
          <p:nvPr/>
        </p:nvPicPr>
        <p:blipFill>
          <a:blip r:embed="rId38"/>
          <a:stretch/>
        </p:blipFill>
        <p:spPr>
          <a:xfrm>
            <a:off x="1476360" y="1052640"/>
            <a:ext cx="5904000" cy="4422600"/>
          </a:xfrm>
          <a:prstGeom prst="rect">
            <a:avLst/>
          </a:prstGeom>
          <a:ln w="0">
            <a:noFill/>
          </a:ln>
        </p:spPr>
      </p:pic>
      <p:sp>
        <p:nvSpPr>
          <p:cNvPr id="1951" name="Line 165"/>
          <p:cNvSpPr/>
          <p:nvPr/>
        </p:nvSpPr>
        <p:spPr>
          <a:xfrm>
            <a:off x="324000" y="620640"/>
            <a:ext cx="309564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95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95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95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95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95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5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5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96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96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96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6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96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97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8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9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99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99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99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200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03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03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04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5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6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7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8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9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0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1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2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3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4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5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6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7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8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9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0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1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2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3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4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5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4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5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6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00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1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2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3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4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17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9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61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63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19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28" name="Object 172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5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54" descr="http://bauen.in-tostedt.de/uploads/Tostedt/100_0598.JPG"/>
          <p:cNvPicPr/>
          <p:nvPr/>
        </p:nvPicPr>
        <p:blipFill>
          <a:blip r:embed="rId38"/>
          <a:stretch/>
        </p:blipFill>
        <p:spPr>
          <a:xfrm>
            <a:off x="395280" y="1413000"/>
            <a:ext cx="5184720" cy="389088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255"/>
          <p:cNvSpPr/>
          <p:nvPr/>
        </p:nvSpPr>
        <p:spPr>
          <a:xfrm>
            <a:off x="5364000" y="3357720"/>
            <a:ext cx="1944720" cy="865080"/>
          </a:xfrm>
          <a:prstGeom prst="leftArrow">
            <a:avLst>
              <a:gd name="adj1" fmla="val 50000"/>
              <a:gd name="adj2" fmla="val 562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35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38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9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66" descr="http://www.heimwerker-tipps.net/wp-content/uploads/2008/02/heizkoerper.jpg"/>
          <p:cNvPicPr/>
          <p:nvPr/>
        </p:nvPicPr>
        <p:blipFill>
          <a:blip r:embed="rId38"/>
          <a:stretch/>
        </p:blipFill>
        <p:spPr>
          <a:xfrm>
            <a:off x="2987640" y="2276640"/>
            <a:ext cx="4000680" cy="2676240"/>
          </a:xfrm>
          <a:prstGeom prst="rect">
            <a:avLst/>
          </a:prstGeom>
          <a:ln w="0">
            <a:noFill/>
          </a:ln>
        </p:spPr>
      </p:pic>
      <p:sp>
        <p:nvSpPr>
          <p:cNvPr id="467" name="Line 171"/>
          <p:cNvSpPr/>
          <p:nvPr/>
        </p:nvSpPr>
        <p:spPr>
          <a:xfrm flipH="1">
            <a:off x="6156000" y="1413000"/>
            <a:ext cx="431640" cy="158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72"/>
          <p:cNvSpPr/>
          <p:nvPr/>
        </p:nvSpPr>
        <p:spPr>
          <a:xfrm>
            <a:off x="3276720" y="1197000"/>
            <a:ext cx="934920" cy="26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518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548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557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64" descr="http://www.abload.de/img/imag0098c1ajt.jpg"/>
          <p:cNvPicPr/>
          <p:nvPr/>
        </p:nvPicPr>
        <p:blipFill>
          <a:blip r:embed="rId38"/>
          <a:stretch/>
        </p:blipFill>
        <p:spPr>
          <a:xfrm>
            <a:off x="1042920" y="2421000"/>
            <a:ext cx="4667400" cy="2790720"/>
          </a:xfrm>
          <a:prstGeom prst="rect">
            <a:avLst/>
          </a:prstGeom>
          <a:ln w="0">
            <a:noFill/>
          </a:ln>
        </p:spPr>
      </p:pic>
      <p:sp>
        <p:nvSpPr>
          <p:cNvPr id="632" name="Line 165"/>
          <p:cNvSpPr/>
          <p:nvPr/>
        </p:nvSpPr>
        <p:spPr>
          <a:xfrm>
            <a:off x="2627280" y="1341360"/>
            <a:ext cx="432000" cy="12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66"/>
          <p:cNvSpPr/>
          <p:nvPr/>
        </p:nvSpPr>
        <p:spPr>
          <a:xfrm>
            <a:off x="2124000" y="1773360"/>
            <a:ext cx="71640" cy="20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67"/>
          <p:cNvSpPr/>
          <p:nvPr/>
        </p:nvSpPr>
        <p:spPr>
          <a:xfrm>
            <a:off x="2916360" y="1773360"/>
            <a:ext cx="1368360" cy="1942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684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714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2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723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4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797" name="Line 167"/>
          <p:cNvSpPr/>
          <p:nvPr/>
        </p:nvSpPr>
        <p:spPr>
          <a:xfrm flipV="1">
            <a:off x="1258920" y="4436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68"/>
          <p:cNvSpPr/>
          <p:nvPr/>
        </p:nvSpPr>
        <p:spPr>
          <a:xfrm flipV="1">
            <a:off x="826920" y="3357360"/>
            <a:ext cx="0" cy="23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69"/>
          <p:cNvSpPr/>
          <p:nvPr/>
        </p:nvSpPr>
        <p:spPr>
          <a:xfrm flipV="1">
            <a:off x="539640" y="3141360"/>
            <a:ext cx="2664000" cy="237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feld 1"/>
          <p:cNvSpPr/>
          <p:nvPr/>
        </p:nvSpPr>
        <p:spPr>
          <a:xfrm>
            <a:off x="500040" y="1700280"/>
            <a:ext cx="313524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 ein Bild aus dem Buderus-Katalog einfügen von einem bodenstehenden Heizkessel mit dem Schnellmontagesystem RK 1-E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827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42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850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880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8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89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0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64" descr="http://www.tommshop.de/Media/Shop/63222.jpg"/>
          <p:cNvPicPr/>
          <p:nvPr/>
        </p:nvPicPr>
        <p:blipFill>
          <a:blip r:embed="rId38"/>
          <a:stretch/>
        </p:blipFill>
        <p:spPr>
          <a:xfrm>
            <a:off x="1835280" y="765000"/>
            <a:ext cx="3143160" cy="2857680"/>
          </a:xfrm>
          <a:prstGeom prst="rect">
            <a:avLst/>
          </a:prstGeom>
          <a:ln w="0">
            <a:noFill/>
          </a:ln>
        </p:spPr>
      </p:pic>
      <p:sp>
        <p:nvSpPr>
          <p:cNvPr id="964" name="Line 165"/>
          <p:cNvSpPr/>
          <p:nvPr/>
        </p:nvSpPr>
        <p:spPr>
          <a:xfrm flipV="1">
            <a:off x="1835280" y="2923920"/>
            <a:ext cx="792000" cy="302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166"/>
          <p:cNvSpPr/>
          <p:nvPr/>
        </p:nvSpPr>
        <p:spPr>
          <a:xfrm flipH="1" flipV="1">
            <a:off x="3419280" y="2852280"/>
            <a:ext cx="865080" cy="201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167"/>
          <p:cNvSpPr/>
          <p:nvPr/>
        </p:nvSpPr>
        <p:spPr>
          <a:xfrm flipH="1" flipV="1">
            <a:off x="4427280" y="2852280"/>
            <a:ext cx="2592360" cy="25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993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008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016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4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046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4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055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6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8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64" descr="http://www.ersatzteilfachmann.de/images/product_images/popup_images/image_BUDERUS5594672_1.jpg"/>
          <p:cNvPicPr/>
          <p:nvPr/>
        </p:nvPicPr>
        <p:blipFill>
          <a:blip r:embed="rId38"/>
          <a:stretch/>
        </p:blipFill>
        <p:spPr>
          <a:xfrm>
            <a:off x="1692360" y="260280"/>
            <a:ext cx="4897440" cy="3676680"/>
          </a:xfrm>
          <a:prstGeom prst="rect">
            <a:avLst/>
          </a:prstGeom>
          <a:ln w="0">
            <a:noFill/>
          </a:ln>
        </p:spPr>
      </p:pic>
      <p:sp>
        <p:nvSpPr>
          <p:cNvPr id="1130" name="Line 165"/>
          <p:cNvSpPr/>
          <p:nvPr/>
        </p:nvSpPr>
        <p:spPr>
          <a:xfrm flipH="1" flipV="1">
            <a:off x="4066920" y="3212640"/>
            <a:ext cx="73080" cy="208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feld 1"/>
          <p:cNvSpPr/>
          <p:nvPr/>
        </p:nvSpPr>
        <p:spPr>
          <a:xfrm>
            <a:off x="5302080" y="3598920"/>
            <a:ext cx="127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©Copyright ES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15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17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18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1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22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294" name="Picture 164" descr="http://medien.markt.de/bilder/2013/10/29/18/35849bd2/medium_image/0/buderus_ecomatic_heizungsregelung.jpg"/>
          <p:cNvPicPr/>
          <p:nvPr/>
        </p:nvPicPr>
        <p:blipFill>
          <a:blip r:embed="rId38"/>
          <a:stretch/>
        </p:blipFill>
        <p:spPr>
          <a:xfrm>
            <a:off x="1692360" y="184464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295" name="Line 165"/>
          <p:cNvSpPr/>
          <p:nvPr/>
        </p:nvSpPr>
        <p:spPr>
          <a:xfrm flipV="1">
            <a:off x="3419640" y="4220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297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298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299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300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301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2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304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9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0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3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4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5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7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8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9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0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1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322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2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3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4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337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4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345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3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374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375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3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84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5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164" descr="thumb_w680_h800_Fubodenheizungsverteiler"/>
          <p:cNvPicPr/>
          <p:nvPr/>
        </p:nvPicPr>
        <p:blipFill>
          <a:blip r:embed="rId38"/>
          <a:stretch/>
        </p:blipFill>
        <p:spPr>
          <a:xfrm>
            <a:off x="2556000" y="0"/>
            <a:ext cx="4032000" cy="3024360"/>
          </a:xfrm>
          <a:prstGeom prst="rect">
            <a:avLst/>
          </a:prstGeom>
          <a:ln w="0">
            <a:noFill/>
          </a:ln>
        </p:spPr>
      </p:pic>
      <p:sp>
        <p:nvSpPr>
          <p:cNvPr id="1459" name="AutoShape 165"/>
          <p:cNvSpPr/>
          <p:nvPr/>
        </p:nvSpPr>
        <p:spPr>
          <a:xfrm>
            <a:off x="414036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AutoShape 166"/>
          <p:cNvSpPr/>
          <p:nvPr/>
        </p:nvSpPr>
        <p:spPr>
          <a:xfrm>
            <a:off x="478800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Line 167"/>
          <p:cNvSpPr/>
          <p:nvPr/>
        </p:nvSpPr>
        <p:spPr>
          <a:xfrm flipH="1" flipV="1">
            <a:off x="5724000" y="1413000"/>
            <a:ext cx="360360" cy="20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Werner, Uwe (ZSL)</cp:lastModifiedBy>
  <dcterms:modified xsi:type="dcterms:W3CDTF">2020-03-02T14:24:45Z</dcterms:modified>
  <cp:revision>16</cp:revision>
  <dc:subject/>
  <dc:title>Folie 1</dc:title>
</cp:coreProperties>
</file>