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6747B-97C0-4944-94E2-EA37BC1EC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6CC3A-70BD-44C9-A229-9AB2C5A7C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510E3-C48A-431D-AEC8-099778B86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C4C38-AFD4-4945-AEA7-FBD6ECBD4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09F0E-15B6-469F-BB9F-896B098F2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78F0B-F0ED-42B3-BB4A-79C966CA3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8049A-2AE4-4B92-A149-63074275D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632D0-F5B2-42F6-9D7F-C49C0A505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CAC18-C55C-4DCC-8477-BCC67985C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4E06A-D31C-48D4-A188-61A2082D3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964F3-EEAF-481B-A32A-808B79F45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F6BE3-A877-4347-BEE3-73ECD2F93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1040F-812E-4662-98A2-AE2FDB7A0F53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nhaltsplatzhalter 4" descr=""/>
          <p:cNvPicPr/>
          <p:nvPr/>
        </p:nvPicPr>
        <p:blipFill>
          <a:blip r:embed="rId1"/>
          <a:stretch/>
        </p:blipFill>
        <p:spPr>
          <a:xfrm>
            <a:off x="84240" y="404640"/>
            <a:ext cx="8975520" cy="629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1T06:03:07Z</dcterms:created>
  <dc:creator>Martin Weigert</dc:creator>
  <dc:description/>
  <dc:language>en-US</dc:language>
  <cp:lastModifiedBy>m w</cp:lastModifiedBy>
  <dcterms:modified xsi:type="dcterms:W3CDTF">2018-03-31T05:45:44Z</dcterms:modified>
  <cp:revision>17</cp:revision>
  <dc:subject/>
  <dc:title>Folie 1</dc:title>
</cp:coreProperties>
</file>