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6E24-1C32-4748-9506-987483649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96B6-E817-491C-9CB7-835F937E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F0B9-B98F-4157-BFA5-C38EB6C9F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C3D0-A4A0-4A1A-A04B-2F5501D11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DA8F-3F5B-4CBB-96FB-56928087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F37C-3EF3-4BBA-96E4-B106AB6A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D744-8C1A-4832-94E2-78DA3358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5D28-2C2F-4F96-B494-873D471C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34F5-5B94-4BA8-B48C-93741171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4A1B-6EA1-40DF-AEF7-48E2894B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9937-BB56-4364-8BF7-F25FD99D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96A3-87D1-469C-A53E-19820525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DEE8-F3E6-4074-8456-7746970B038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haltsplatzhalter 4" descr=""/>
          <p:cNvPicPr/>
          <p:nvPr/>
        </p:nvPicPr>
        <p:blipFill>
          <a:blip r:embed="rId1"/>
          <a:stretch/>
        </p:blipFill>
        <p:spPr>
          <a:xfrm>
            <a:off x="84240" y="404640"/>
            <a:ext cx="8975520" cy="629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45:44Z</dcterms:modified>
  <cp:revision>17</cp:revision>
  <dc:subject/>
  <dc:title>Folie 1</dc:title>
</cp:coreProperties>
</file>